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33E-8491-4E43-AC56-F9BCC713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E8D-BA46-4850-AAC7-9CA7A415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135-6B88-4C55-881A-E1D31FF3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1CFF-74DC-491C-9FE4-904234C4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C7B68-DA5B-42D5-BE78-694EBACF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96093-59AA-477A-95C5-677ACA71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F3C5A-8D27-425B-885E-A7CD6151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939AD-9D33-4845-B542-048FEA5F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9DCC4-1F52-4708-90EC-ACDB8AC6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91D65-BC5A-47DD-8DD7-E7EC3533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1AD0C-B9CA-4626-ACA5-44720A7B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7A8-9D47-4CAD-A86A-AAF786EA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7D7C1-9F27-4B82-95A9-0DF24EA7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4D84D-CCEE-4CFC-B4EF-6B1B0E65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78C19-F5FA-4ADB-97C3-0CC6FADB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A28C6-9D61-47EF-8D94-5D377BBA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10EE7-6FE3-43B1-BD64-098F6BCF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9F5-7DAB-4133-AA78-65C275A2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2A9-523D-4CE7-B725-9A19F771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BED-760E-43AC-AFAA-A5C12326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949-2697-4FF2-9BB3-620C2649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52D-D545-4D2E-8715-5ED4CBE0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B4E-E21E-4050-B2AD-23C49581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260-C77A-4CC3-BC25-AEDAD317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B96C-272C-47DF-A4F8-FE8A93E533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496D-1A01-4EC4-8816-57F9159C3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motherjones.com/blue_marble_blog/792px-Polar_Bear_2004-11-15.jpg&amp;imgrefurl=http://www.motherjones.com/blue_marble_blog/archives/2007/10/&amp;h=600&amp;w=792&amp;sz=102&amp;hl=en&amp;start=5&amp;tbnid=N_I-rKLR1O1-YM:&amp;tbnh=108&amp;tbnw=143&amp;prev=/images%3Fq%3Dpolar%2Bbears%26gbv%3D2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theage.com.au/ffximage/2006/02/09/svPOLAR_narrowweb__300x447,0.jpg&amp;imgrefurl=http://dearkitty.blogsome.com/2007/03/01/&amp;h=447&amp;w=300&amp;sz=16&amp;hl=en&amp;start=17&amp;tbnid=qQIYsbOpfFV_TM:&amp;tbnh=127&amp;tbnw=85&amp;prev=/images%3Fq%3Dpolar%2Bbears%26gbv%3D2%26hl%3Den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images.google.com/imgres?imgurl=http://www.theage.com.au/ffximage/2006/02/09/svPOLAR_narrowweb__300x447,0.jpg&amp;imgrefurl=http://dearkitty.blogsome.com/2007/03/01/&amp;h=447&amp;w=300&amp;sz=16&amp;hl=en&amp;start=17&amp;tbnid=qQIYsbOpfFV_TM:&amp;tbnh=127&amp;tbnw=85&amp;prev=/images%3Fq%3Dpolar%2Bbears%26gbv%3D2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komar.org/faq/churchill_polar_bear_tours/polar-bears-standing.jpg&amp;imgrefurl=http://www.komar.org/faq/churchill_polar_bear_tours/&amp;h=600&amp;w=600&amp;sz=24&amp;hl=en&amp;start=15&amp;tbnid=RyD0yqKy5MX0nM:&amp;tbnh=135&amp;tbnw=135&amp;prev=/images%3Fq%3Dpolar%2Bbears%26gbv%3D2%26hl%3Den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s.google.com/imgres?imgurl=http://www.komar.org/faq/churchill_polar_bear_tours/polar-bears-standing.jpg&amp;imgrefurl=http://www.komar.org/faq/churchill_polar_bear_tours/&amp;h=600&amp;w=600&amp;sz=24&amp;hl=en&amp;start=15&amp;tbnid=RyD0yqKy5MX0nM:&amp;tbnh=135&amp;tbnw=135&amp;prev=/images%3Fq%3Dpolar%2Bbears%26gbv%3D2%26hl%3Den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ar  Bea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Chels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2952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you like Polar bears? Well if so, read to learn about them.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81080" y="2057400"/>
            <a:ext cx="48006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ar bears live where it is col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live where it’s cold because they are warm blood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3124080"/>
            <a:ext cx="2514600" cy="2895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038480" y="3124080"/>
            <a:ext cx="2362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live in cav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ves keep them saf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9040" y="27860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9040" y="278604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3581280" y="2666880"/>
            <a:ext cx="2133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371600" y="2666880"/>
            <a:ext cx="22287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eat many thing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eat fish, seals, and kri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29000" y="3389400"/>
            <a:ext cx="2952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ar bears live in the Arctic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live there because it’s co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267080" y="2895480"/>
            <a:ext cx="29527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se are some facts about Polar bea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14600" y="2590920"/>
            <a:ext cx="487692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21:22Z</dcterms:modified>
  <cp:revision>4</cp:revision>
  <dc:subject/>
  <dc:title>Animal Name</dc:title>
</cp:coreProperties>
</file>